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F175-D529-4DD8-92DA-0213A9A9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8C9-8DEB-4E32-AAF5-A6646C4A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1AF-6EF0-4A63-BE80-4158B522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BAF-39D2-416F-8DE3-A1C75592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39B9-B354-4E54-B10A-3EA11E54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9E73-A725-4ABB-BE63-E4A3E6AD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47E-CF27-41AC-B402-963263E9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08D7-3A91-403C-9D6F-83E1EF16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904-8C75-444F-90AA-630B44FB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9756-69F4-4114-BCCD-A84BFE07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797-BE32-4025-8558-FEF1FCA7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CD2-4A5C-4318-97BC-C8600C6A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3FE4-5882-4564-8DC3-BB8BFD382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42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5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AutoShape 7"/>
          <p:cNvSpPr/>
          <p:nvPr/>
        </p:nvSpPr>
        <p:spPr>
          <a:xfrm>
            <a:off x="1447920" y="152280"/>
            <a:ext cx="6629400" cy="1043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cultural Commun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762120" y="1600200"/>
            <a:ext cx="3809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914400" y="2209680"/>
            <a:ext cx="7162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fine intercultural communication with regards to culture and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1066680" y="3657600"/>
            <a:ext cx="6477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iscuss the nature and meaning of cul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6934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IMAG0042"/>
          <p:cNvPicPr/>
          <p:nvPr/>
        </p:nvPicPr>
        <p:blipFill>
          <a:blip r:embed="rId2"/>
          <a:stretch/>
        </p:blipFill>
        <p:spPr>
          <a:xfrm rot="20572200">
            <a:off x="4190760" y="761760"/>
            <a:ext cx="3200400" cy="2876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3"/>
          <a:stretch/>
        </p:blipFill>
        <p:spPr>
          <a:xfrm>
            <a:off x="3240" y="0"/>
            <a:ext cx="1596960" cy="6934320"/>
          </a:xfrm>
          <a:prstGeom prst="rect">
            <a:avLst/>
          </a:prstGeom>
          <a:ln w="0">
            <a:noFill/>
          </a:ln>
        </p:spPr>
      </p:pic>
      <p:sp>
        <p:nvSpPr>
          <p:cNvPr id="148" name="WordArt 9"/>
          <p:cNvSpPr txBox="1"/>
          <p:nvPr/>
        </p:nvSpPr>
        <p:spPr>
          <a:xfrm>
            <a:off x="1219320" y="380880"/>
            <a:ext cx="28954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The Ar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49" name="Picture 10" descr="IMAG0043"/>
          <p:cNvPicPr/>
          <p:nvPr/>
        </p:nvPicPr>
        <p:blipFill>
          <a:blip r:embed="rId6"/>
          <a:stretch/>
        </p:blipFill>
        <p:spPr>
          <a:xfrm>
            <a:off x="1600200" y="28195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15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7"/>
          <p:cNvSpPr/>
          <p:nvPr/>
        </p:nvSpPr>
        <p:spPr>
          <a:xfrm>
            <a:off x="838080" y="762120"/>
            <a:ext cx="7391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haracteristics of innov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lative Advan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mplex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rial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Observ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155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Rectangle 7"/>
          <p:cNvSpPr/>
          <p:nvPr/>
        </p:nvSpPr>
        <p:spPr>
          <a:xfrm>
            <a:off x="1295280" y="5335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ive Categories of Adopte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nnovators – 2.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arly adopters – 13.5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arly majority – 3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ate Majority – 3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aggards – 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aadoptercur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160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Rectangle 7"/>
          <p:cNvSpPr/>
          <p:nvPr/>
        </p:nvSpPr>
        <p:spPr>
          <a:xfrm>
            <a:off x="91440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ure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mopolite social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among a c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of substantial financ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understand the apply complex technical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914400" y="38088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nov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165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Rectangle 7"/>
          <p:cNvSpPr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with high degree of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ng to accept setback from unsuccessfu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s innovations from outside the system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ekeeper in the flow of new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914400" y="3808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novators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170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Rectangle 7"/>
          <p:cNvSpPr/>
          <p:nvPr/>
        </p:nvSpPr>
        <p:spPr>
          <a:xfrm>
            <a:off x="9144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into local social system; loca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st degree of opinion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dvice and information about inno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model for other members of a soci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ed by 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85800" y="60948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rly Adop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175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Rectangle 7"/>
          <p:cNvSpPr/>
          <p:nvPr/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odies successful discrete use of new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s to make judicious innovation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s uncertainty about a new idea by adopt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ys a subjective evaluation of technology to near-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685800" y="609480"/>
            <a:ext cx="5715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rly Adopt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180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Rectangle 7"/>
          <p:cNvSpPr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 just before the average member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 frequently with 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dom hold positions of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deliberate for some time before adop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deliberate willingness in adopting inno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85800" y="609480"/>
            <a:ext cx="3962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rly Maj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185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4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Rectangle 5"/>
          <p:cNvSpPr/>
          <p:nvPr/>
        </p:nvSpPr>
        <p:spPr>
          <a:xfrm>
            <a:off x="68580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 after the average member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 may be economic necessity or result of peer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ptical and cautious toward inno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norms must favor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rc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uncertainty must be removed before an innovation is ado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762120" y="0"/>
            <a:ext cx="396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te Maj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5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49" name="Picture 6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7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Rectangle 8"/>
          <p:cNvSpPr/>
          <p:nvPr/>
        </p:nvSpPr>
        <p:spPr>
          <a:xfrm>
            <a:off x="457200" y="38088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cultural Commun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914400" y="114300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 Top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990720" y="1676520"/>
            <a:ext cx="7391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1. Communications and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1.1 Relationship between language and cul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990720" y="2895480"/>
            <a:ext cx="7010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2. The Nature and Meaning of Cul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2.1  Concept of cul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2.2. Characteristics of cul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2.3. Components of cul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2.4. Cultural Chan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2.5. Transfer of cul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2.6. Importance and functions of cul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2.7. Cultural relativis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190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4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Rectangle 5"/>
          <p:cNvSpPr/>
          <p:nvPr/>
        </p:nvSpPr>
        <p:spPr>
          <a:xfrm>
            <a:off x="990720" y="38088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gg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8380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to ad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pinion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oca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ly isolated in soci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picious of inventions an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 and use lag far behind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195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AutoShape 8"/>
          <p:cNvSpPr/>
          <p:nvPr/>
        </p:nvSpPr>
        <p:spPr>
          <a:xfrm>
            <a:off x="762120" y="0"/>
            <a:ext cx="2971800" cy="6858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al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838080" y="990720"/>
            <a:ext cx="76201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come about du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2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a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2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2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with othe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2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usion – something moves from culture to 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2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mulus diffusion – refers to an element of one culture  leading to an invention in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2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ovation – is an idea perceived as new by an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9" descr=""/>
          <p:cNvPicPr/>
          <p:nvPr/>
        </p:nvPicPr>
        <p:blipFill>
          <a:blip r:embed="rId1"/>
          <a:stretch/>
        </p:blipFill>
        <p:spPr>
          <a:xfrm>
            <a:off x="8305920" y="0"/>
            <a:ext cx="838080" cy="6934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835200" cy="6934320"/>
          </a:xfrm>
          <a:prstGeom prst="rect">
            <a:avLst/>
          </a:prstGeom>
          <a:ln w="0">
            <a:noFill/>
          </a:ln>
        </p:spPr>
      </p:pic>
      <p:sp>
        <p:nvSpPr>
          <p:cNvPr id="201" name="WordArt 4"/>
          <p:cNvSpPr txBox="1"/>
          <p:nvPr/>
        </p:nvSpPr>
        <p:spPr>
          <a:xfrm>
            <a:off x="2057400" y="304920"/>
            <a:ext cx="4876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 Black"/>
              </a:rPr>
              <a:t>Cultural Chan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 Black"/>
              <a:ea typeface="Arial Black"/>
            </a:endParaRPr>
          </a:p>
        </p:txBody>
      </p:sp>
      <p:grpSp>
        <p:nvGrpSpPr>
          <p:cNvPr id="202" name="Group 36"/>
          <p:cNvGrpSpPr/>
          <p:nvPr/>
        </p:nvGrpSpPr>
        <p:grpSpPr>
          <a:xfrm>
            <a:off x="762120" y="1447920"/>
            <a:ext cx="7467120" cy="4800600"/>
            <a:chOff x="762120" y="1447920"/>
            <a:chExt cx="7467120" cy="4800600"/>
          </a:xfrm>
        </p:grpSpPr>
        <p:sp>
          <p:nvSpPr>
            <p:cNvPr id="203" name="AutoShape 7"/>
            <p:cNvSpPr/>
            <p:nvPr/>
          </p:nvSpPr>
          <p:spPr>
            <a:xfrm>
              <a:off x="3223800" y="3124080"/>
              <a:ext cx="2297520" cy="137160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8"/>
            <p:cNvSpPr/>
            <p:nvPr/>
          </p:nvSpPr>
          <p:spPr>
            <a:xfrm>
              <a:off x="3470040" y="3352680"/>
              <a:ext cx="1839240" cy="9144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66"/>
                  </a:solidFill>
                  <a:latin typeface="AntigoniBd"/>
                </a:rPr>
                <a:t>CULTURAL CHANGE PATTERN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9"/>
            <p:cNvSpPr/>
            <p:nvPr/>
          </p:nvSpPr>
          <p:spPr>
            <a:xfrm>
              <a:off x="762120" y="1689120"/>
              <a:ext cx="7101360" cy="448308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1"/>
            <p:cNvSpPr/>
            <p:nvPr/>
          </p:nvSpPr>
          <p:spPr>
            <a:xfrm>
              <a:off x="3387600" y="5638680"/>
              <a:ext cx="2191680" cy="609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99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2"/>
            <p:cNvSpPr/>
            <p:nvPr/>
          </p:nvSpPr>
          <p:spPr>
            <a:xfrm>
              <a:off x="3633840" y="5715000"/>
              <a:ext cx="1644480" cy="4316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99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Integ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4"/>
            <p:cNvSpPr/>
            <p:nvPr/>
          </p:nvSpPr>
          <p:spPr>
            <a:xfrm>
              <a:off x="5791320" y="4191120"/>
              <a:ext cx="2215440" cy="691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99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6044400" y="4300560"/>
              <a:ext cx="1661400" cy="4921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99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ubcult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16"/>
            <p:cNvGrpSpPr/>
            <p:nvPr/>
          </p:nvGrpSpPr>
          <p:grpSpPr>
            <a:xfrm>
              <a:off x="925920" y="4876920"/>
              <a:ext cx="2348640" cy="615960"/>
              <a:chOff x="925920" y="4876920"/>
              <a:chExt cx="2348640" cy="615960"/>
            </a:xfrm>
          </p:grpSpPr>
          <p:sp>
            <p:nvSpPr>
              <p:cNvPr id="211" name="AutoShape 17"/>
              <p:cNvSpPr/>
              <p:nvPr/>
            </p:nvSpPr>
            <p:spPr>
              <a:xfrm>
                <a:off x="925920" y="4876920"/>
                <a:ext cx="2348640" cy="615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18"/>
              <p:cNvSpPr/>
              <p:nvPr/>
            </p:nvSpPr>
            <p:spPr>
              <a:xfrm>
                <a:off x="1090080" y="4951440"/>
                <a:ext cx="2035440" cy="43740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Accultur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34"/>
            <p:cNvGrpSpPr/>
            <p:nvPr/>
          </p:nvGrpSpPr>
          <p:grpSpPr>
            <a:xfrm>
              <a:off x="2238840" y="1447920"/>
              <a:ext cx="1722600" cy="533160"/>
              <a:chOff x="2238840" y="1447920"/>
              <a:chExt cx="1722600" cy="533160"/>
            </a:xfrm>
          </p:grpSpPr>
          <p:sp>
            <p:nvSpPr>
              <p:cNvPr id="214" name="AutoShape 20"/>
              <p:cNvSpPr/>
              <p:nvPr/>
            </p:nvSpPr>
            <p:spPr>
              <a:xfrm>
                <a:off x="2238840" y="1447920"/>
                <a:ext cx="1722600" cy="5331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99cc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21"/>
              <p:cNvSpPr/>
              <p:nvPr/>
            </p:nvSpPr>
            <p:spPr>
              <a:xfrm>
                <a:off x="2291400" y="1539720"/>
                <a:ext cx="1512720" cy="37944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99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Assimil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35"/>
            <p:cNvGrpSpPr/>
            <p:nvPr/>
          </p:nvGrpSpPr>
          <p:grpSpPr>
            <a:xfrm>
              <a:off x="4782960" y="1447920"/>
              <a:ext cx="2625120" cy="609480"/>
              <a:chOff x="4782960" y="1447920"/>
              <a:chExt cx="2625120" cy="609480"/>
            </a:xfrm>
          </p:grpSpPr>
          <p:sp>
            <p:nvSpPr>
              <p:cNvPr id="217" name="AutoShape 23"/>
              <p:cNvSpPr/>
              <p:nvPr/>
            </p:nvSpPr>
            <p:spPr>
              <a:xfrm>
                <a:off x="4782960" y="1447920"/>
                <a:ext cx="2625120" cy="609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24"/>
              <p:cNvSpPr/>
              <p:nvPr/>
            </p:nvSpPr>
            <p:spPr>
              <a:xfrm>
                <a:off x="4862880" y="1554120"/>
                <a:ext cx="2451240" cy="43344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ff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ominant cultu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25"/>
            <p:cNvGrpSpPr/>
            <p:nvPr/>
          </p:nvGrpSpPr>
          <p:grpSpPr>
            <a:xfrm>
              <a:off x="6095520" y="2438280"/>
              <a:ext cx="2133720" cy="685800"/>
              <a:chOff x="6095520" y="2438280"/>
              <a:chExt cx="2133720" cy="685800"/>
            </a:xfrm>
          </p:grpSpPr>
          <p:sp>
            <p:nvSpPr>
              <p:cNvPr id="220" name="AutoShape 26"/>
              <p:cNvSpPr/>
              <p:nvPr/>
            </p:nvSpPr>
            <p:spPr>
              <a:xfrm>
                <a:off x="6095520" y="2438280"/>
                <a:ext cx="2133720" cy="685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99cc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 Box 27"/>
              <p:cNvSpPr/>
              <p:nvPr/>
            </p:nvSpPr>
            <p:spPr>
              <a:xfrm>
                <a:off x="6159960" y="2557080"/>
                <a:ext cx="1874880" cy="4878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99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Counter-cultu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Group 30"/>
          <p:cNvGrpSpPr/>
          <p:nvPr/>
        </p:nvGrpSpPr>
        <p:grpSpPr>
          <a:xfrm>
            <a:off x="762120" y="2590920"/>
            <a:ext cx="2286000" cy="609480"/>
            <a:chOff x="762120" y="2590920"/>
            <a:chExt cx="2286000" cy="609480"/>
          </a:xfrm>
        </p:grpSpPr>
        <p:sp>
          <p:nvSpPr>
            <p:cNvPr id="223" name="AutoShape 31"/>
            <p:cNvSpPr/>
            <p:nvPr/>
          </p:nvSpPr>
          <p:spPr>
            <a:xfrm>
              <a:off x="762120" y="2590920"/>
              <a:ext cx="2286000" cy="60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ffff9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2"/>
            <p:cNvSpPr/>
            <p:nvPr/>
          </p:nvSpPr>
          <p:spPr>
            <a:xfrm>
              <a:off x="831240" y="2693520"/>
              <a:ext cx="2216520" cy="386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Transcultu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AutoShape 17"/>
          <p:cNvSpPr/>
          <p:nvPr/>
        </p:nvSpPr>
        <p:spPr>
          <a:xfrm>
            <a:off x="533520" y="3879720"/>
            <a:ext cx="2181240" cy="61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ffff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762120" y="3962520"/>
            <a:ext cx="1890720" cy="438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cul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4"/>
          <p:cNvGrpSpPr/>
          <p:nvPr/>
        </p:nvGrpSpPr>
        <p:grpSpPr>
          <a:xfrm>
            <a:off x="0" y="-76320"/>
            <a:ext cx="9144000" cy="7010640"/>
            <a:chOff x="0" y="-76320"/>
            <a:chExt cx="9144000" cy="7010640"/>
          </a:xfrm>
        </p:grpSpPr>
        <p:pic>
          <p:nvPicPr>
            <p:cNvPr id="228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-7632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Text Box 7"/>
          <p:cNvSpPr/>
          <p:nvPr/>
        </p:nvSpPr>
        <p:spPr>
          <a:xfrm>
            <a:off x="762120" y="192240"/>
            <a:ext cx="76197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TERNS OF CULTURAL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Enculturation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process of learning culture one’s own group. Ex.  Learning the folkways, mores, social traditions, values and beliefs of on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57531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7"/>
          <p:cNvSpPr/>
          <p:nvPr/>
        </p:nvSpPr>
        <p:spPr>
          <a:xfrm>
            <a:off x="762120" y="192240"/>
            <a:ext cx="76197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TERNS OF CULTUR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Enculturation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process of learning culture one’s own group. Ex.  Learning the folkways, mores, social traditions, values and beliefs of on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simi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he process of adopting a different often a dominant culture by an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nscultu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a phenomenon of merging and converging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cultu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fers to replacement of the traits of one culture with those of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35200" cy="6934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7"/>
          <p:cNvSpPr/>
          <p:nvPr/>
        </p:nvSpPr>
        <p:spPr>
          <a:xfrm>
            <a:off x="762120" y="192240"/>
            <a:ext cx="761976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TERNS OF CULTURAL CHANGE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minant cul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ustoms and traditions practiced mostly by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cul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presents the variations as practiced by  smaller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nter- cul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(or contra-culture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 the rejection of existing social norms, results from the opposition and conflict between a larger society and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ltural Integ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fers to the process of combining various elements of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35200" cy="6934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239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AutoShape 7"/>
          <p:cNvSpPr/>
          <p:nvPr/>
        </p:nvSpPr>
        <p:spPr>
          <a:xfrm>
            <a:off x="838080" y="533520"/>
            <a:ext cx="4038840" cy="6858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er  of Cul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1133640" y="4146480"/>
            <a:ext cx="2666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dire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20"/>
          <p:cNvGrpSpPr/>
          <p:nvPr/>
        </p:nvGrpSpPr>
        <p:grpSpPr>
          <a:xfrm>
            <a:off x="2286000" y="1447920"/>
            <a:ext cx="5715000" cy="3201840"/>
            <a:chOff x="2286000" y="1447920"/>
            <a:chExt cx="5715000" cy="3201840"/>
          </a:xfrm>
        </p:grpSpPr>
        <p:sp>
          <p:nvSpPr>
            <p:cNvPr id="244" name="Rectangle 8"/>
            <p:cNvSpPr/>
            <p:nvPr/>
          </p:nvSpPr>
          <p:spPr>
            <a:xfrm>
              <a:off x="2286000" y="1447920"/>
              <a:ext cx="480060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 General Models of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“Culture Transfer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>
              <a:off x="4495680" y="2590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0"/>
            <p:cNvSpPr/>
            <p:nvPr/>
          </p:nvSpPr>
          <p:spPr>
            <a:xfrm>
              <a:off x="2514600" y="320040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2"/>
            <p:cNvSpPr/>
            <p:nvPr/>
          </p:nvSpPr>
          <p:spPr>
            <a:xfrm>
              <a:off x="5500800" y="4129200"/>
              <a:ext cx="25002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idirect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5"/>
            <p:cNvSpPr/>
            <p:nvPr/>
          </p:nvSpPr>
          <p:spPr>
            <a:xfrm>
              <a:off x="2479680" y="3179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6400800" y="3200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25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7"/>
          <p:cNvSpPr/>
          <p:nvPr/>
        </p:nvSpPr>
        <p:spPr>
          <a:xfrm>
            <a:off x="1066680" y="30492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directional Cultur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ransfer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762120" y="2438280"/>
            <a:ext cx="27432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                          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s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3048120" y="2971800"/>
            <a:ext cx="5029200" cy="914400"/>
            <a:chOff x="3048120" y="2971800"/>
            <a:chExt cx="5029200" cy="914400"/>
          </a:xfrm>
        </p:grpSpPr>
        <p:sp>
          <p:nvSpPr>
            <p:cNvPr id="256" name="Rectangle 8"/>
            <p:cNvSpPr/>
            <p:nvPr/>
          </p:nvSpPr>
          <p:spPr>
            <a:xfrm>
              <a:off x="6172200" y="34290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hildren       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3139920" y="37465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1"/>
            <p:cNvSpPr/>
            <p:nvPr/>
          </p:nvSpPr>
          <p:spPr>
            <a:xfrm>
              <a:off x="3048120" y="2971800"/>
              <a:ext cx="2971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KNOWLEDG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260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Rectangle 7"/>
          <p:cNvSpPr/>
          <p:nvPr/>
        </p:nvSpPr>
        <p:spPr>
          <a:xfrm>
            <a:off x="2895480" y="304920"/>
            <a:ext cx="3362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direc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990720" y="1523880"/>
            <a:ext cx="738648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d Goal : To have exact copy-like nature of transmission of the given mes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ransfer is given directly. And viewed as something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: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265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Diagram 7"/>
          <p:cNvGrpSpPr/>
          <p:nvPr/>
        </p:nvGrpSpPr>
        <p:grpSpPr>
          <a:xfrm>
            <a:off x="1143000" y="1447920"/>
            <a:ext cx="5419800" cy="3528720"/>
            <a:chOff x="1143000" y="1447920"/>
            <a:chExt cx="5419800" cy="3528720"/>
          </a:xfrm>
        </p:grpSpPr>
        <p:sp>
          <p:nvSpPr>
            <p:cNvPr id="268" name="_s1028"/>
            <p:cNvSpPr/>
            <p:nvPr/>
          </p:nvSpPr>
          <p:spPr>
            <a:xfrm flipH="1">
              <a:off x="3668400" y="388944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029"/>
            <p:cNvSpPr/>
            <p:nvPr/>
          </p:nvSpPr>
          <p:spPr>
            <a:xfrm>
              <a:off x="2657520" y="3890880"/>
              <a:ext cx="1085760" cy="1085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o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030"/>
            <p:cNvSpPr/>
            <p:nvPr/>
          </p:nvSpPr>
          <p:spPr>
            <a:xfrm>
              <a:off x="5079960" y="389088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1031"/>
            <p:cNvSpPr/>
            <p:nvPr/>
          </p:nvSpPr>
          <p:spPr>
            <a:xfrm>
              <a:off x="5477040" y="3889440"/>
              <a:ext cx="1085760" cy="1085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o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1032"/>
            <p:cNvSpPr/>
            <p:nvPr/>
          </p:nvSpPr>
          <p:spPr>
            <a:xfrm flipV="1">
              <a:off x="4610160" y="253368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1033"/>
            <p:cNvSpPr/>
            <p:nvPr/>
          </p:nvSpPr>
          <p:spPr>
            <a:xfrm>
              <a:off x="4067280" y="1447920"/>
              <a:ext cx="1085760" cy="1085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oung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034"/>
            <p:cNvSpPr/>
            <p:nvPr/>
          </p:nvSpPr>
          <p:spPr>
            <a:xfrm>
              <a:off x="4067280" y="3076560"/>
              <a:ext cx="1085760" cy="1085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ld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16"/>
            <p:cNvGrpSpPr/>
            <p:nvPr/>
          </p:nvGrpSpPr>
          <p:grpSpPr>
            <a:xfrm>
              <a:off x="1143000" y="1676520"/>
              <a:ext cx="2895120" cy="2209680"/>
              <a:chOff x="1143000" y="1676520"/>
              <a:chExt cx="2895120" cy="2209680"/>
            </a:xfrm>
          </p:grpSpPr>
          <p:sp>
            <p:nvSpPr>
              <p:cNvPr id="276" name="Line 17"/>
              <p:cNvSpPr/>
              <p:nvPr/>
            </p:nvSpPr>
            <p:spPr>
              <a:xfrm flipH="1">
                <a:off x="3657240" y="18288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8"/>
              <p:cNvSpPr/>
              <p:nvPr/>
            </p:nvSpPr>
            <p:spPr>
              <a:xfrm>
                <a:off x="1295280" y="2133720"/>
                <a:ext cx="251424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alyze and reconstru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19"/>
              <p:cNvSpPr/>
              <p:nvPr/>
            </p:nvSpPr>
            <p:spPr>
              <a:xfrm>
                <a:off x="3047760" y="251460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0"/>
              <p:cNvSpPr/>
              <p:nvPr/>
            </p:nvSpPr>
            <p:spPr>
              <a:xfrm>
                <a:off x="1218960" y="2666880"/>
                <a:ext cx="1676160" cy="685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nviron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hanges in th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nviron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21"/>
              <p:cNvSpPr/>
              <p:nvPr/>
            </p:nvSpPr>
            <p:spPr>
              <a:xfrm>
                <a:off x="1143000" y="3581280"/>
                <a:ext cx="2438280" cy="304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OTHER MESSA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22"/>
              <p:cNvSpPr/>
              <p:nvPr/>
            </p:nvSpPr>
            <p:spPr>
              <a:xfrm>
                <a:off x="1295280" y="1676520"/>
                <a:ext cx="274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i-cameral transf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29"/>
          <p:cNvGrpSpPr/>
          <p:nvPr/>
        </p:nvGrpSpPr>
        <p:grpSpPr>
          <a:xfrm>
            <a:off x="1828800" y="533520"/>
            <a:ext cx="5410080" cy="5397480"/>
            <a:chOff x="1828800" y="533520"/>
            <a:chExt cx="5410080" cy="5397480"/>
          </a:xfrm>
        </p:grpSpPr>
        <p:sp>
          <p:nvSpPr>
            <p:cNvPr id="283" name="Line 24"/>
            <p:cNvSpPr/>
            <p:nvPr/>
          </p:nvSpPr>
          <p:spPr>
            <a:xfrm>
              <a:off x="3200400" y="5029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5"/>
            <p:cNvSpPr/>
            <p:nvPr/>
          </p:nvSpPr>
          <p:spPr>
            <a:xfrm>
              <a:off x="3200400" y="53341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6"/>
            <p:cNvSpPr/>
            <p:nvPr/>
          </p:nvSpPr>
          <p:spPr>
            <a:xfrm>
              <a:off x="5638680" y="49528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3276720" y="556272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IDIRECT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8"/>
            <p:cNvSpPr/>
            <p:nvPr/>
          </p:nvSpPr>
          <p:spPr>
            <a:xfrm>
              <a:off x="1828800" y="533520"/>
              <a:ext cx="5410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i- Directional Transfer Mod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56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Rectangle 7"/>
          <p:cNvSpPr/>
          <p:nvPr/>
        </p:nvSpPr>
        <p:spPr>
          <a:xfrm>
            <a:off x="914400" y="838080"/>
            <a:ext cx="701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3. Cultural 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3.1  The Growth of Femi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3.2.  Multicult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3.3.  The growth of youth sub-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838080" y="3048120"/>
            <a:ext cx="7010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4. Cultural dimensions of learning,    teaching and educational pro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289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Rectangle 7"/>
          <p:cNvSpPr/>
          <p:nvPr/>
        </p:nvSpPr>
        <p:spPr>
          <a:xfrm>
            <a:off x="1066680" y="1676520"/>
            <a:ext cx="738684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ticipants of this culture transfer of knowledge are actively transforming the cultural mess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hange or reconstruct the message unlike unidirectional in which there are no change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1828800" y="533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- Directional Transf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29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Rectangle 7"/>
          <p:cNvSpPr/>
          <p:nvPr/>
        </p:nvSpPr>
        <p:spPr>
          <a:xfrm>
            <a:off x="1219320" y="30492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CE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838080" y="1523880"/>
            <a:ext cx="7386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 Qual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st of Local and National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links between the PAST,PRESENT and FUTURE to develop a sense of “commonnes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299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7"/>
          <p:cNvSpPr/>
          <p:nvPr/>
        </p:nvSpPr>
        <p:spPr>
          <a:xfrm>
            <a:off x="609480" y="3808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ANCE AND FUNCTIONS OF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1066680" y="1371600"/>
            <a:ext cx="73868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 shapes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 provides a standard by which we evaluate other’s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 provides boundary mainten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Group 18"/>
          <p:cNvGrpSpPr/>
          <p:nvPr/>
        </p:nvGrpSpPr>
        <p:grpSpPr>
          <a:xfrm>
            <a:off x="838080" y="533520"/>
            <a:ext cx="6248520" cy="5105160"/>
            <a:chOff x="838080" y="533520"/>
            <a:chExt cx="6248520" cy="5105160"/>
          </a:xfrm>
        </p:grpSpPr>
        <p:sp>
          <p:nvSpPr>
            <p:cNvPr id="307" name="AutoShape 19"/>
            <p:cNvSpPr/>
            <p:nvPr/>
          </p:nvSpPr>
          <p:spPr>
            <a:xfrm>
              <a:off x="2019240" y="2666880"/>
              <a:ext cx="4038840" cy="685800"/>
            </a:xfrm>
            <a:prstGeom prst="bevel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Growth of Femini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20"/>
            <p:cNvSpPr/>
            <p:nvPr/>
          </p:nvSpPr>
          <p:spPr>
            <a:xfrm>
              <a:off x="2057400" y="3733920"/>
              <a:ext cx="2895480" cy="685800"/>
            </a:xfrm>
            <a:prstGeom prst="bevel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ulticulturali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21"/>
            <p:cNvSpPr/>
            <p:nvPr/>
          </p:nvSpPr>
          <p:spPr>
            <a:xfrm>
              <a:off x="2057400" y="4952880"/>
              <a:ext cx="5029200" cy="685800"/>
            </a:xfrm>
            <a:prstGeom prst="bevel">
              <a:avLst>
                <a:gd name="adj" fmla="val 125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Growth of Youth subcul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22"/>
            <p:cNvSpPr/>
            <p:nvPr/>
          </p:nvSpPr>
          <p:spPr>
            <a:xfrm>
              <a:off x="1981080" y="1447920"/>
              <a:ext cx="3124440" cy="685800"/>
            </a:xfrm>
            <a:prstGeom prst="bevel">
              <a:avLst>
                <a:gd name="adj" fmla="val 1250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ultural Relativi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23"/>
            <p:cNvSpPr/>
            <p:nvPr/>
          </p:nvSpPr>
          <p:spPr>
            <a:xfrm>
              <a:off x="838080" y="533520"/>
              <a:ext cx="3353040" cy="685800"/>
            </a:xfrm>
            <a:prstGeom prst="bevel">
              <a:avLst>
                <a:gd name="adj" fmla="val 1250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ULTURAL ISSU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4"/>
            <p:cNvSpPr/>
            <p:nvPr/>
          </p:nvSpPr>
          <p:spPr>
            <a:xfrm>
              <a:off x="1295280" y="121932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25"/>
            <p:cNvSpPr/>
            <p:nvPr/>
          </p:nvSpPr>
          <p:spPr>
            <a:xfrm>
              <a:off x="1295280" y="52578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6"/>
            <p:cNvSpPr/>
            <p:nvPr/>
          </p:nvSpPr>
          <p:spPr>
            <a:xfrm>
              <a:off x="1295280" y="29718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27"/>
            <p:cNvSpPr/>
            <p:nvPr/>
          </p:nvSpPr>
          <p:spPr>
            <a:xfrm>
              <a:off x="1295280" y="4038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8"/>
            <p:cNvSpPr/>
            <p:nvPr/>
          </p:nvSpPr>
          <p:spPr>
            <a:xfrm>
              <a:off x="1295280" y="1752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318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Rectangle 8"/>
          <p:cNvSpPr/>
          <p:nvPr/>
        </p:nvSpPr>
        <p:spPr>
          <a:xfrm>
            <a:off x="1066680" y="1523880"/>
            <a:ext cx="738684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nciple that an individual human’s belief activities make sense in terms of his or her own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 is responsible or related to how people behave or th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838080" y="304920"/>
            <a:ext cx="3124440" cy="6858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al Relativ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323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AutoShape 8"/>
          <p:cNvSpPr/>
          <p:nvPr/>
        </p:nvSpPr>
        <p:spPr>
          <a:xfrm>
            <a:off x="914400" y="304920"/>
            <a:ext cx="4038480" cy="6858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owth of Femi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3886200" y="12193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inism – is a movement organized around the belief in the social, political, and economic equality of the sexes, largely motivated by experiences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9" descr="http://rds.yahoo.com/_ylt=A0Je5mzskuFERqIAeNOjzbkF;_ylu=X3oDMTA4NDgyNWN0BHNlYwNwcm9m/SIG=12it7j763/EXP=1155720300/**http%3a/www.amit.org.il/learning/english/images/eng_less10c.jpg"/>
          <p:cNvPicPr/>
          <p:nvPr/>
        </p:nvPicPr>
        <p:blipFill>
          <a:blip r:embed="rId4"/>
          <a:stretch/>
        </p:blipFill>
        <p:spPr>
          <a:xfrm>
            <a:off x="914400" y="1219320"/>
            <a:ext cx="2971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329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AutoShape 7"/>
          <p:cNvSpPr/>
          <p:nvPr/>
        </p:nvSpPr>
        <p:spPr>
          <a:xfrm>
            <a:off x="990720" y="304920"/>
            <a:ext cx="3429000" cy="12952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ult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9" descr="739118947[1]"/>
          <p:cNvPicPr/>
          <p:nvPr/>
        </p:nvPicPr>
        <p:blipFill>
          <a:blip r:embed="rId4"/>
          <a:stretch/>
        </p:blipFill>
        <p:spPr>
          <a:xfrm rot="870000">
            <a:off x="4419360" y="990360"/>
            <a:ext cx="3504960" cy="2692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2358415240[1]"/>
          <p:cNvPicPr/>
          <p:nvPr/>
        </p:nvPicPr>
        <p:blipFill>
          <a:blip r:embed="rId5"/>
          <a:stretch/>
        </p:blipFill>
        <p:spPr>
          <a:xfrm rot="19679400">
            <a:off x="990720" y="2286000"/>
            <a:ext cx="3171600" cy="28414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251554728[1]"/>
          <p:cNvPicPr/>
          <p:nvPr/>
        </p:nvPicPr>
        <p:blipFill>
          <a:blip r:embed="rId6"/>
          <a:stretch/>
        </p:blipFill>
        <p:spPr>
          <a:xfrm>
            <a:off x="4343400" y="3733920"/>
            <a:ext cx="2419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1066680" y="1295280"/>
            <a:ext cx="71629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ulturalism – is a public policy approach for managing cultural diversity in a multiethnic society, officially stressing mutual respect and tolerance for cultural differences within a country’s bor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: Unique characteristics of different cul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337" name="Picture 7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8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AutoShape 9"/>
          <p:cNvSpPr/>
          <p:nvPr/>
        </p:nvSpPr>
        <p:spPr>
          <a:xfrm>
            <a:off x="990720" y="304920"/>
            <a:ext cx="2895480" cy="6858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ult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34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AutoShape 7"/>
          <p:cNvSpPr/>
          <p:nvPr/>
        </p:nvSpPr>
        <p:spPr>
          <a:xfrm>
            <a:off x="838080" y="304920"/>
            <a:ext cx="5029200" cy="6858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owth of Youth sub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685800" y="1219320"/>
            <a:ext cx="73864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cultures -  is a set of people with distinct sets of behavior and beliefs that differentiate them from a larger culture of which they are a 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ctive becaus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 of its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e or ethn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5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346" name="Picture 6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7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AutoShape 8"/>
          <p:cNvSpPr/>
          <p:nvPr/>
        </p:nvSpPr>
        <p:spPr>
          <a:xfrm>
            <a:off x="838080" y="304920"/>
            <a:ext cx="5867640" cy="6858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owth of Youth subculture 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685800" y="1219320"/>
            <a:ext cx="7620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ies that determine a subcul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p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6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Rectangle 7"/>
          <p:cNvSpPr/>
          <p:nvPr/>
        </p:nvSpPr>
        <p:spPr>
          <a:xfrm>
            <a:off x="1066680" y="762120"/>
            <a:ext cx="7010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5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cc"/>
                </a:solidFill>
                <a:latin typeface="Arial"/>
              </a:rPr>
              <a:t>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51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munication of thoughts and feelings through a system of arbitrary signals, such as voice sounds, gestures, or written symb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5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51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lves listening, speaking, reading and writing. It is a system of signs, symbols, gestures, or rules used in communic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51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4"/>
          <p:cNvSpPr/>
          <p:nvPr/>
        </p:nvSpPr>
        <p:spPr>
          <a:xfrm>
            <a:off x="838080" y="304920"/>
            <a:ext cx="5867640" cy="685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owth of Youth subculture 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685800" y="1219320"/>
            <a:ext cx="7620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th subculture – refer to the ways young people (adolescents and teenagers) differentiates themselves from the mainstream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 to the economic, political, and educational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adop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835200" cy="69343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"/>
          <p:cNvPicPr/>
          <p:nvPr/>
        </p:nvPicPr>
        <p:blipFill>
          <a:blip r:embed="rId3"/>
          <a:stretch/>
        </p:blipFill>
        <p:spPr>
          <a:xfrm>
            <a:off x="8305920" y="0"/>
            <a:ext cx="8380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AutoShape 4"/>
          <p:cNvSpPr/>
          <p:nvPr/>
        </p:nvSpPr>
        <p:spPr>
          <a:xfrm>
            <a:off x="762120" y="228600"/>
            <a:ext cx="4038480" cy="685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vant Culture 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914400" y="121932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lture Sho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refers to the unpleasant or disoriented feeling one experiences when he goes to a new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reactions: anxiety, stress, frustrations, dism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: fear of being alone, loneliness, feeling of being laugh at or che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69343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AutoShape 4"/>
          <p:cNvSpPr/>
          <p:nvPr/>
        </p:nvSpPr>
        <p:spPr>
          <a:xfrm>
            <a:off x="762120" y="228600"/>
            <a:ext cx="4038480" cy="685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vant Culture 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838080" y="1066680"/>
            <a:ext cx="7620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nocentr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When members of a society or group consider as superior, normal and right above other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6934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69343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5"/>
          <p:cNvSpPr/>
          <p:nvPr/>
        </p:nvSpPr>
        <p:spPr>
          <a:xfrm>
            <a:off x="762120" y="2971800"/>
            <a:ext cx="76197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enocentr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the opposite of ethnocentrism which is the belief that one’s own lifestyle, ideas or products are inferior and what is foreign is sup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AutoShape 4"/>
          <p:cNvSpPr/>
          <p:nvPr/>
        </p:nvSpPr>
        <p:spPr>
          <a:xfrm>
            <a:off x="762120" y="228600"/>
            <a:ext cx="4038480" cy="685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vant Culture 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6934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69343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762120" y="1066680"/>
            <a:ext cx="7619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orocentr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the belief that one’s own time is more important than the past time or future. The belief is prevalent among people who lack historical persp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762120" y="3124080"/>
            <a:ext cx="7619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lture Universa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are practices found in every culture. Ex. Athletic sports, folklore giftgiving,  religion, sexual restrictions, 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4"/>
          <p:cNvSpPr/>
          <p:nvPr/>
        </p:nvSpPr>
        <p:spPr>
          <a:xfrm>
            <a:off x="762120" y="228600"/>
            <a:ext cx="4038480" cy="685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vant Culture 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69343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69343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914400" y="1219320"/>
            <a:ext cx="7620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lture Relativ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the exact opposite of ethnocentrism, views that a cultural practice is neither good nor bad in itself and that its desirability depends upon their meaning, value and function in the culture which they are part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ultures have customs, practices and traits which maybe viewed as offensive and eccentric by other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4"/>
          <p:cNvSpPr/>
          <p:nvPr/>
        </p:nvSpPr>
        <p:spPr>
          <a:xfrm>
            <a:off x="762120" y="228600"/>
            <a:ext cx="2286000" cy="685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7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6934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693432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5"/>
          <p:cNvSpPr/>
          <p:nvPr/>
        </p:nvSpPr>
        <p:spPr>
          <a:xfrm>
            <a:off x="914400" y="1219320"/>
            <a:ext cx="7620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as-as, Roberta L. (2003). General Sociology: society, culture, Population Dynamics and Gender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65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AutoShape 7"/>
          <p:cNvSpPr/>
          <p:nvPr/>
        </p:nvSpPr>
        <p:spPr>
          <a:xfrm>
            <a:off x="990720" y="247680"/>
            <a:ext cx="7162560" cy="8380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cc"/>
                </a:solidFill>
                <a:latin typeface="Arial"/>
              </a:rPr>
              <a:t>2.1. Communications and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914400" y="1523880"/>
            <a:ext cx="7162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cc"/>
                </a:solidFill>
                <a:latin typeface="Arial"/>
              </a:rPr>
              <a:t>2.1. Communications and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1.1 Relationship between language and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914400" y="2666880"/>
            <a:ext cx="7391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cc"/>
                </a:solidFill>
                <a:latin typeface="Arial"/>
              </a:rPr>
              <a:t>Communication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exchange of thoughts, messages, or information, by speech, signals, writing or behav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cess of transferring and sharing information and  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may take the form of interpersonal communications (body language, nonverbal communication, rumors), and mass media (TV, film, radio, newspapers and computers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7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Group 15"/>
          <p:cNvGrpSpPr/>
          <p:nvPr/>
        </p:nvGrpSpPr>
        <p:grpSpPr>
          <a:xfrm>
            <a:off x="1066680" y="990720"/>
            <a:ext cx="6172200" cy="4745520"/>
            <a:chOff x="1066680" y="990720"/>
            <a:chExt cx="6172200" cy="4745520"/>
          </a:xfrm>
        </p:grpSpPr>
        <p:sp>
          <p:nvSpPr>
            <p:cNvPr id="74" name="AutoShape 8"/>
            <p:cNvSpPr/>
            <p:nvPr/>
          </p:nvSpPr>
          <p:spPr>
            <a:xfrm>
              <a:off x="2057400" y="990720"/>
              <a:ext cx="4514760" cy="612360"/>
            </a:xfrm>
            <a:prstGeom prst="bevel">
              <a:avLst>
                <a:gd name="adj" fmla="val 12500"/>
              </a:avLst>
            </a:prstGeom>
            <a:solidFill>
              <a:srgbClr val="ffff99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onents of Langu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9"/>
            <p:cNvSpPr/>
            <p:nvPr/>
          </p:nvSpPr>
          <p:spPr>
            <a:xfrm>
              <a:off x="1066680" y="3200400"/>
              <a:ext cx="2008440" cy="2535840"/>
            </a:xfrm>
            <a:prstGeom prst="bevel">
              <a:avLst>
                <a:gd name="adj" fmla="val 12500"/>
              </a:avLst>
            </a:prstGeom>
            <a:solidFill>
              <a:srgbClr val="ffff99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ng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n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g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mbo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amm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10"/>
            <p:cNvSpPr/>
            <p:nvPr/>
          </p:nvSpPr>
          <p:spPr>
            <a:xfrm>
              <a:off x="5429160" y="3201840"/>
              <a:ext cx="1809720" cy="2354760"/>
            </a:xfrm>
            <a:prstGeom prst="bevel">
              <a:avLst>
                <a:gd name="adj" fmla="val 12500"/>
              </a:avLst>
            </a:prstGeom>
            <a:solidFill>
              <a:srgbClr val="ffff99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r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ual spee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ay of speak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>
              <a:off x="2085840" y="2465280"/>
              <a:ext cx="427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>
              <a:off x="2085840" y="2465280"/>
              <a:ext cx="0" cy="677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>
              <a:off x="6364440" y="2465280"/>
              <a:ext cx="0" cy="677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>
              <a:off x="4307040" y="1593720"/>
              <a:ext cx="0" cy="871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82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AutoShape 7"/>
          <p:cNvSpPr/>
          <p:nvPr/>
        </p:nvSpPr>
        <p:spPr>
          <a:xfrm>
            <a:off x="946080" y="155520"/>
            <a:ext cx="7442280" cy="8380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cc"/>
                </a:solidFill>
                <a:latin typeface="Arial"/>
              </a:rPr>
              <a:t>2.2. The Nature and Meaning of Cul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838080" y="1206360"/>
            <a:ext cx="3329280" cy="6858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 of Cul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838080" y="1905120"/>
            <a:ext cx="73152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ward B. Tayl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ulture is that complex whole which includes knowledge, belief, art, law, morals, customs and other capabilities and habits acquired by a man as a member of socie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838080" y="3581280"/>
            <a:ext cx="7315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t is the accumulated ways of doing things which is the product of human experience; it is the totality of what individuals have learned about living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838080" y="487692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ocially-transmitted beliefs, language, values and behavior, practices and norms, and sanctions, together with other products (material or non-material) of interaction form part of one’s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4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90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52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"/>
            <p:cNvPicPr/>
            <p:nvPr/>
          </p:nvPicPr>
          <p:blipFill>
            <a:blip r:embed="rId2"/>
            <a:stretch/>
          </p:blipFill>
          <p:spPr>
            <a:xfrm>
              <a:off x="8305920" y="0"/>
              <a:ext cx="838080" cy="69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AutoShape 7"/>
          <p:cNvSpPr/>
          <p:nvPr/>
        </p:nvSpPr>
        <p:spPr>
          <a:xfrm>
            <a:off x="838080" y="380880"/>
            <a:ext cx="4496040" cy="6858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 of Cul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14400" y="144792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Culture is Lea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Culture is di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Culture is a group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Culture is transmitted from generation to gen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Culture is adaptive and maladap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Culture is Sh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 Culture is patterned and integ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 Culture is compuls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   Culture is cumul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 Culture is dyna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9" descr=""/>
          <p:cNvPicPr/>
          <p:nvPr/>
        </p:nvPicPr>
        <p:blipFill>
          <a:blip r:embed="rId1"/>
          <a:stretch/>
        </p:blipFill>
        <p:spPr>
          <a:xfrm>
            <a:off x="3240" y="0"/>
            <a:ext cx="834840" cy="6934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7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6934320"/>
          </a:xfrm>
          <a:prstGeom prst="rect">
            <a:avLst/>
          </a:prstGeom>
          <a:ln w="0">
            <a:noFill/>
          </a:ln>
        </p:spPr>
      </p:pic>
      <p:sp>
        <p:nvSpPr>
          <p:cNvPr id="96" name="WordArt 48"/>
          <p:cNvSpPr txBox="1"/>
          <p:nvPr/>
        </p:nvSpPr>
        <p:spPr>
          <a:xfrm>
            <a:off x="914400" y="0"/>
            <a:ext cx="6553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 Black"/>
              </a:rPr>
              <a:t>Components of Cul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 Black"/>
              <a:ea typeface="Arial Black"/>
            </a:endParaRPr>
          </a:p>
        </p:txBody>
      </p:sp>
      <p:grpSp>
        <p:nvGrpSpPr>
          <p:cNvPr id="97" name="Group 94"/>
          <p:cNvGrpSpPr/>
          <p:nvPr/>
        </p:nvGrpSpPr>
        <p:grpSpPr>
          <a:xfrm>
            <a:off x="1438200" y="1008000"/>
            <a:ext cx="6639120" cy="5316120"/>
            <a:chOff x="1438200" y="1008000"/>
            <a:chExt cx="6639120" cy="5316120"/>
          </a:xfrm>
        </p:grpSpPr>
        <p:grpSp>
          <p:nvGrpSpPr>
            <p:cNvPr id="98" name="Group 5"/>
            <p:cNvGrpSpPr/>
            <p:nvPr/>
          </p:nvGrpSpPr>
          <p:grpSpPr>
            <a:xfrm>
              <a:off x="3729240" y="2319480"/>
              <a:ext cx="1558800" cy="633240"/>
              <a:chOff x="3729240" y="2319480"/>
              <a:chExt cx="1558800" cy="633240"/>
            </a:xfrm>
          </p:grpSpPr>
          <p:sp>
            <p:nvSpPr>
              <p:cNvPr id="99" name="AutoShape 6"/>
              <p:cNvSpPr/>
              <p:nvPr/>
            </p:nvSpPr>
            <p:spPr>
              <a:xfrm>
                <a:off x="3729240" y="2319480"/>
                <a:ext cx="1558800" cy="6332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7"/>
              <p:cNvSpPr/>
              <p:nvPr/>
            </p:nvSpPr>
            <p:spPr>
              <a:xfrm>
                <a:off x="3867840" y="2407320"/>
                <a:ext cx="1247040" cy="4748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66"/>
                    </a:solidFill>
                    <a:latin typeface="AntigoniBd"/>
                  </a:rPr>
                  <a:t>CULTURE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AutoShape 9"/>
            <p:cNvSpPr/>
            <p:nvPr/>
          </p:nvSpPr>
          <p:spPr>
            <a:xfrm>
              <a:off x="2048040" y="4560840"/>
              <a:ext cx="5418000" cy="1532160"/>
            </a:xfrm>
            <a:prstGeom prst="upArrowCallout">
              <a:avLst>
                <a:gd name="adj1" fmla="val 88413"/>
                <a:gd name="adj2" fmla="val 88405"/>
                <a:gd name="adj3" fmla="val 16667"/>
                <a:gd name="adj4" fmla="val 6666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22"/>
            <p:cNvSpPr/>
            <p:nvPr/>
          </p:nvSpPr>
          <p:spPr>
            <a:xfrm>
              <a:off x="1608120" y="1008000"/>
              <a:ext cx="5888160" cy="312912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0"/>
            <p:cNvGrpSpPr/>
            <p:nvPr/>
          </p:nvGrpSpPr>
          <p:grpSpPr>
            <a:xfrm>
              <a:off x="1438200" y="2209680"/>
              <a:ext cx="1447920" cy="609840"/>
              <a:chOff x="1438200" y="2209680"/>
              <a:chExt cx="1447920" cy="609840"/>
            </a:xfrm>
          </p:grpSpPr>
          <p:sp>
            <p:nvSpPr>
              <p:cNvPr id="104" name="AutoShape 51"/>
              <p:cNvSpPr/>
              <p:nvPr/>
            </p:nvSpPr>
            <p:spPr>
              <a:xfrm>
                <a:off x="1438200" y="2209680"/>
                <a:ext cx="1447920" cy="609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52"/>
              <p:cNvSpPr/>
              <p:nvPr/>
            </p:nvSpPr>
            <p:spPr>
              <a:xfrm>
                <a:off x="1482120" y="2315160"/>
                <a:ext cx="1272240" cy="43380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anguag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53"/>
            <p:cNvGrpSpPr/>
            <p:nvPr/>
          </p:nvGrpSpPr>
          <p:grpSpPr>
            <a:xfrm>
              <a:off x="1590840" y="1143000"/>
              <a:ext cx="1447560" cy="609480"/>
              <a:chOff x="1590840" y="1143000"/>
              <a:chExt cx="1447560" cy="609480"/>
            </a:xfrm>
          </p:grpSpPr>
          <p:sp>
            <p:nvSpPr>
              <p:cNvPr id="107" name="AutoShape 54"/>
              <p:cNvSpPr/>
              <p:nvPr/>
            </p:nvSpPr>
            <p:spPr>
              <a:xfrm>
                <a:off x="1590840" y="1143000"/>
                <a:ext cx="1447560" cy="609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55"/>
              <p:cNvSpPr/>
              <p:nvPr/>
            </p:nvSpPr>
            <p:spPr>
              <a:xfrm>
                <a:off x="1634760" y="1248480"/>
                <a:ext cx="1271880" cy="43344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Symbol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59"/>
            <p:cNvGrpSpPr/>
            <p:nvPr/>
          </p:nvGrpSpPr>
          <p:grpSpPr>
            <a:xfrm>
              <a:off x="5857920" y="1066680"/>
              <a:ext cx="1447920" cy="609840"/>
              <a:chOff x="5857920" y="1066680"/>
              <a:chExt cx="1447920" cy="609840"/>
            </a:xfrm>
          </p:grpSpPr>
          <p:sp>
            <p:nvSpPr>
              <p:cNvPr id="110" name="AutoShape 60"/>
              <p:cNvSpPr/>
              <p:nvPr/>
            </p:nvSpPr>
            <p:spPr>
              <a:xfrm>
                <a:off x="5857920" y="1066680"/>
                <a:ext cx="1447920" cy="609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61"/>
              <p:cNvSpPr/>
              <p:nvPr/>
            </p:nvSpPr>
            <p:spPr>
              <a:xfrm>
                <a:off x="5901840" y="1172160"/>
                <a:ext cx="1272240" cy="43380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The Ar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62"/>
            <p:cNvGrpSpPr/>
            <p:nvPr/>
          </p:nvGrpSpPr>
          <p:grpSpPr>
            <a:xfrm>
              <a:off x="3832200" y="3505320"/>
              <a:ext cx="1828800" cy="990360"/>
              <a:chOff x="3832200" y="3505320"/>
              <a:chExt cx="1828800" cy="990360"/>
            </a:xfrm>
          </p:grpSpPr>
          <p:sp>
            <p:nvSpPr>
              <p:cNvPr id="113" name="AutoShape 63"/>
              <p:cNvSpPr/>
              <p:nvPr/>
            </p:nvSpPr>
            <p:spPr>
              <a:xfrm>
                <a:off x="3832200" y="3505320"/>
                <a:ext cx="1828800" cy="990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64"/>
              <p:cNvSpPr/>
              <p:nvPr/>
            </p:nvSpPr>
            <p:spPr>
              <a:xfrm>
                <a:off x="3887640" y="3676680"/>
                <a:ext cx="1607040" cy="7045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Customs and Tradi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65"/>
            <p:cNvGrpSpPr/>
            <p:nvPr/>
          </p:nvGrpSpPr>
          <p:grpSpPr>
            <a:xfrm>
              <a:off x="6162840" y="2286000"/>
              <a:ext cx="1676160" cy="609480"/>
              <a:chOff x="6162840" y="2286000"/>
              <a:chExt cx="1676160" cy="609480"/>
            </a:xfrm>
          </p:grpSpPr>
          <p:sp>
            <p:nvSpPr>
              <p:cNvPr id="116" name="AutoShape 66"/>
              <p:cNvSpPr/>
              <p:nvPr/>
            </p:nvSpPr>
            <p:spPr>
              <a:xfrm>
                <a:off x="6162840" y="2286000"/>
                <a:ext cx="1676160" cy="609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67"/>
              <p:cNvSpPr/>
              <p:nvPr/>
            </p:nvSpPr>
            <p:spPr>
              <a:xfrm>
                <a:off x="6213600" y="2391480"/>
                <a:ext cx="1472760" cy="43344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Governan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68"/>
            <p:cNvGrpSpPr/>
            <p:nvPr/>
          </p:nvGrpSpPr>
          <p:grpSpPr>
            <a:xfrm>
              <a:off x="1514520" y="3200400"/>
              <a:ext cx="1676520" cy="914400"/>
              <a:chOff x="1514520" y="3200400"/>
              <a:chExt cx="1676520" cy="914400"/>
            </a:xfrm>
          </p:grpSpPr>
          <p:sp>
            <p:nvSpPr>
              <p:cNvPr id="119" name="AutoShape 69"/>
              <p:cNvSpPr/>
              <p:nvPr/>
            </p:nvSpPr>
            <p:spPr>
              <a:xfrm>
                <a:off x="1514520" y="3200400"/>
                <a:ext cx="1676520" cy="914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70"/>
              <p:cNvSpPr/>
              <p:nvPr/>
            </p:nvSpPr>
            <p:spPr>
              <a:xfrm>
                <a:off x="1565280" y="3358800"/>
                <a:ext cx="1473120" cy="6505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Social Organiz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71"/>
            <p:cNvGrpSpPr/>
            <p:nvPr/>
          </p:nvGrpSpPr>
          <p:grpSpPr>
            <a:xfrm>
              <a:off x="6019920" y="3254400"/>
              <a:ext cx="2057400" cy="914400"/>
              <a:chOff x="6019920" y="3254400"/>
              <a:chExt cx="2057400" cy="914400"/>
            </a:xfrm>
          </p:grpSpPr>
          <p:sp>
            <p:nvSpPr>
              <p:cNvPr id="122" name="AutoShape 72"/>
              <p:cNvSpPr/>
              <p:nvPr/>
            </p:nvSpPr>
            <p:spPr>
              <a:xfrm>
                <a:off x="6019920" y="3254400"/>
                <a:ext cx="2057400" cy="914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73"/>
              <p:cNvSpPr/>
              <p:nvPr/>
            </p:nvSpPr>
            <p:spPr>
              <a:xfrm>
                <a:off x="6082200" y="3412800"/>
                <a:ext cx="1807920" cy="6505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Technology or material cultu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78"/>
            <p:cNvGrpSpPr/>
            <p:nvPr/>
          </p:nvGrpSpPr>
          <p:grpSpPr>
            <a:xfrm>
              <a:off x="2070000" y="4965840"/>
              <a:ext cx="990360" cy="457200"/>
              <a:chOff x="2070000" y="4965840"/>
              <a:chExt cx="990360" cy="457200"/>
            </a:xfrm>
          </p:grpSpPr>
          <p:sp>
            <p:nvSpPr>
              <p:cNvPr id="125" name="AutoShape 75"/>
              <p:cNvSpPr/>
              <p:nvPr/>
            </p:nvSpPr>
            <p:spPr>
              <a:xfrm>
                <a:off x="2070000" y="4965840"/>
                <a:ext cx="990360" cy="457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76"/>
              <p:cNvSpPr/>
              <p:nvPr/>
            </p:nvSpPr>
            <p:spPr>
              <a:xfrm>
                <a:off x="2124000" y="5019840"/>
                <a:ext cx="869760" cy="25560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Valu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79"/>
            <p:cNvGrpSpPr/>
            <p:nvPr/>
          </p:nvGrpSpPr>
          <p:grpSpPr>
            <a:xfrm>
              <a:off x="5095800" y="4952880"/>
              <a:ext cx="990360" cy="457200"/>
              <a:chOff x="5095800" y="4952880"/>
              <a:chExt cx="990360" cy="457200"/>
            </a:xfrm>
          </p:grpSpPr>
          <p:sp>
            <p:nvSpPr>
              <p:cNvPr id="128" name="AutoShape 80"/>
              <p:cNvSpPr/>
              <p:nvPr/>
            </p:nvSpPr>
            <p:spPr>
              <a:xfrm>
                <a:off x="5095800" y="4952880"/>
                <a:ext cx="990360" cy="457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81"/>
              <p:cNvSpPr/>
              <p:nvPr/>
            </p:nvSpPr>
            <p:spPr>
              <a:xfrm>
                <a:off x="5149800" y="5006880"/>
                <a:ext cx="869760" cy="25560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Belief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82"/>
            <p:cNvGrpSpPr/>
            <p:nvPr/>
          </p:nvGrpSpPr>
          <p:grpSpPr>
            <a:xfrm>
              <a:off x="3419640" y="4952880"/>
              <a:ext cx="990360" cy="457200"/>
              <a:chOff x="3419640" y="4952880"/>
              <a:chExt cx="990360" cy="457200"/>
            </a:xfrm>
          </p:grpSpPr>
          <p:sp>
            <p:nvSpPr>
              <p:cNvPr id="131" name="AutoShape 83"/>
              <p:cNvSpPr/>
              <p:nvPr/>
            </p:nvSpPr>
            <p:spPr>
              <a:xfrm>
                <a:off x="3419640" y="4952880"/>
                <a:ext cx="990360" cy="457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84"/>
              <p:cNvSpPr/>
              <p:nvPr/>
            </p:nvSpPr>
            <p:spPr>
              <a:xfrm>
                <a:off x="3473640" y="5006880"/>
                <a:ext cx="869760" cy="25560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Norm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85"/>
            <p:cNvGrpSpPr/>
            <p:nvPr/>
          </p:nvGrpSpPr>
          <p:grpSpPr>
            <a:xfrm>
              <a:off x="6620040" y="4952880"/>
              <a:ext cx="990360" cy="457200"/>
              <a:chOff x="6620040" y="4952880"/>
              <a:chExt cx="990360" cy="457200"/>
            </a:xfrm>
          </p:grpSpPr>
          <p:sp>
            <p:nvSpPr>
              <p:cNvPr id="134" name="AutoShape 86"/>
              <p:cNvSpPr/>
              <p:nvPr/>
            </p:nvSpPr>
            <p:spPr>
              <a:xfrm>
                <a:off x="6620040" y="4952880"/>
                <a:ext cx="990360" cy="457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87"/>
              <p:cNvSpPr/>
              <p:nvPr/>
            </p:nvSpPr>
            <p:spPr>
              <a:xfrm>
                <a:off x="6674040" y="5006880"/>
                <a:ext cx="869760" cy="25560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Mo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88"/>
            <p:cNvGrpSpPr/>
            <p:nvPr/>
          </p:nvGrpSpPr>
          <p:grpSpPr>
            <a:xfrm>
              <a:off x="2809800" y="5791320"/>
              <a:ext cx="1599840" cy="532800"/>
              <a:chOff x="2809800" y="5791320"/>
              <a:chExt cx="1599840" cy="532800"/>
            </a:xfrm>
          </p:grpSpPr>
          <p:sp>
            <p:nvSpPr>
              <p:cNvPr id="137" name="AutoShape 89"/>
              <p:cNvSpPr/>
              <p:nvPr/>
            </p:nvSpPr>
            <p:spPr>
              <a:xfrm>
                <a:off x="2809800" y="5791320"/>
                <a:ext cx="1599840" cy="532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90"/>
              <p:cNvSpPr/>
              <p:nvPr/>
            </p:nvSpPr>
            <p:spPr>
              <a:xfrm>
                <a:off x="2896920" y="5853960"/>
                <a:ext cx="1405080" cy="2977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Sanc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91"/>
            <p:cNvGrpSpPr/>
            <p:nvPr/>
          </p:nvGrpSpPr>
          <p:grpSpPr>
            <a:xfrm>
              <a:off x="5172120" y="5791320"/>
              <a:ext cx="1599840" cy="532800"/>
              <a:chOff x="5172120" y="5791320"/>
              <a:chExt cx="1599840" cy="532800"/>
            </a:xfrm>
          </p:grpSpPr>
          <p:sp>
            <p:nvSpPr>
              <p:cNvPr id="140" name="AutoShape 92"/>
              <p:cNvSpPr/>
              <p:nvPr/>
            </p:nvSpPr>
            <p:spPr>
              <a:xfrm>
                <a:off x="5172120" y="5791320"/>
                <a:ext cx="1599840" cy="532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93"/>
              <p:cNvSpPr/>
              <p:nvPr/>
            </p:nvSpPr>
            <p:spPr>
              <a:xfrm>
                <a:off x="5259240" y="5853960"/>
                <a:ext cx="1405080" cy="2977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Folkway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56"/>
          <p:cNvGrpSpPr/>
          <p:nvPr/>
        </p:nvGrpSpPr>
        <p:grpSpPr>
          <a:xfrm>
            <a:off x="3809880" y="838080"/>
            <a:ext cx="1447920" cy="609840"/>
            <a:chOff x="3809880" y="838080"/>
            <a:chExt cx="1447920" cy="609840"/>
          </a:xfrm>
        </p:grpSpPr>
        <p:sp>
          <p:nvSpPr>
            <p:cNvPr id="143" name="AutoShape 57"/>
            <p:cNvSpPr/>
            <p:nvPr/>
          </p:nvSpPr>
          <p:spPr>
            <a:xfrm>
              <a:off x="3809880" y="838080"/>
              <a:ext cx="1447920" cy="609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ffff9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58"/>
            <p:cNvSpPr/>
            <p:nvPr/>
          </p:nvSpPr>
          <p:spPr>
            <a:xfrm>
              <a:off x="3853800" y="943560"/>
              <a:ext cx="1272240" cy="4338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Relig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1T09:45:32Z</dcterms:created>
  <dc:creator>rizalina g. gomez</dc:creator>
  <dc:description/>
  <dc:language>en-US</dc:language>
  <cp:lastModifiedBy>WLServer</cp:lastModifiedBy>
  <dcterms:modified xsi:type="dcterms:W3CDTF">2012-02-10T03:08:35Z</dcterms:modified>
  <cp:revision>49</cp:revision>
  <dc:subject/>
  <dc:title>Slide 1</dc:title>
</cp:coreProperties>
</file>